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9FA-8C75-4087-9E6C-77D971B2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2F1-A0CC-4411-A696-37853DE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560-8B94-490F-B98D-9BB76F81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16A-3080-4DC1-818D-FD23FE31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AC6-4582-4573-B3F3-20205432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5CD-432A-4EE1-A25B-095244B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8A9-9B3A-40DD-8FD5-BA5F8F44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287-827A-4836-8C70-CA79B35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882-6707-4D85-9AB7-BAD8369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FFC-C3E3-4F5E-8182-09AFFC8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908-B7F3-4CE4-A3DA-90FBB212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893-DA36-4315-AB04-92A635E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4D8-579D-4B79-865E-6FC1F056D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91120" cy="9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حلى السجود أم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شد بالعود لجلا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للي دفعت فيَّ أغ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ث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ما قبلتك ربي، صا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ي السلط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 بترعى حياتي بكل حن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8759475AFNWUZafbD_ph" descr=""/>
          <p:cNvPicPr/>
          <p:nvPr/>
        </p:nvPicPr>
        <p:blipFill>
          <a:blip r:embed="rId1"/>
          <a:stretch/>
        </p:blipFill>
        <p:spPr>
          <a:xfrm>
            <a:off x="0" y="-100080"/>
            <a:ext cx="48769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457200"/>
            <a:ext cx="39625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صوتي ليك حيعلا بهتاف أناش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لأنك عايش فيّ، أيامي 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بتغني حياتي جنبك بالموا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6574917mhMQwO_ph" descr=""/>
          <p:cNvPicPr/>
          <p:nvPr/>
        </p:nvPicPr>
        <p:blipFill>
          <a:blip r:embed="rId1"/>
          <a:stretch/>
        </p:blipFill>
        <p:spPr>
          <a:xfrm>
            <a:off x="39495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58128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ا عزي بيك وفخري، وما ليّ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سراج لرجلي كلامك وماشي ور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لى أيامي يا ربي ما يسود إ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6:39:56Z</dcterms:created>
  <dc:creator>SUZANNE.MD</dc:creator>
  <dc:description/>
  <dc:language>en-US</dc:language>
  <cp:lastModifiedBy>USER</cp:lastModifiedBy>
  <dcterms:modified xsi:type="dcterms:W3CDTF">2002-12-31T13:42:02Z</dcterms:modified>
  <cp:revision>2</cp:revision>
  <dc:subject/>
  <dc:title>PowerPoint Presentation</dc:title>
</cp:coreProperties>
</file>